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EA7-A53E-4513-9ACC-FBF0D97C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231-7787-468A-8C2B-092DC064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832-4704-4A05-BE4F-859B38FA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AA2-8683-4F93-A2E4-E8CABCE2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8EF-BE3B-4BB9-9DD1-442901CE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9EB-8795-491D-B35D-C9F133AA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B85-A9BC-4FB6-8B76-79D93D94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E1D-DB23-4401-9B48-77900A8C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828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238-AEA7-47B8-B6D3-81D1C687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48E-D704-418B-9E9F-C4EB5018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F9F-079B-439D-A483-3F8EE9DC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B2F-65AE-4433-8132-9EC1B0D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4B03-6136-4167-91DE-BB210E767B0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11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Out-of-Order Execution Structure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riteback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rite result to register fil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roadcast tag in order to wakeup waiting instruction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tice that the tag broadcast should happen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WO cycles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 advance of the result prod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We’ll revisit this point so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servation Station Mode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Used by Pentium Pro, PowerPC 604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-order buffer holds valu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naming points to re-order buffer entri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masulo-lik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153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vantGarde"/>
              </a:rPr>
              <a:t>Physical Register File vs. Reservation Station</a:t>
            </a:r>
            <a:endParaRPr b="0" lang="en-US" sz="2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hysical Register Fi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 in the register fi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t writeback instructions broadcast the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the register file upon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n-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reservation stations prior to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Quantifying Complexit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s a function of architectural parameter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Size: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uction 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W: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ssue Wid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ull-custom Implement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udy the critical pa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mode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xtrapolate how it will scale with “future” technologi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W instruction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2 x Input register nam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1 x Output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ut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2 x input physical register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new output physical regi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previous physical register name for checkpointing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d rename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erscalar Issue complicates things a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One Instruc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23" name="Group 12" descr=""/>
          <p:cNvPicPr/>
          <p:nvPr/>
        </p:nvPicPr>
        <p:blipFill>
          <a:blip r:embed="rId1"/>
          <a:stretch/>
        </p:blipFill>
        <p:spPr>
          <a:xfrm>
            <a:off x="1481040" y="2193840"/>
            <a:ext cx="542880" cy="3237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3505320" y="2133720"/>
            <a:ext cx="152388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505320" y="21337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3505320" y="51055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9051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905120" y="38098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905120" y="5029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roup 19" descr=""/>
          <p:cNvPicPr/>
          <p:nvPr/>
        </p:nvPicPr>
        <p:blipFill>
          <a:blip r:embed="rId2"/>
          <a:stretch/>
        </p:blipFill>
        <p:spPr>
          <a:xfrm>
            <a:off x="6284880" y="2266920"/>
            <a:ext cx="53676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Line 23"/>
          <p:cNvSpPr/>
          <p:nvPr/>
        </p:nvSpPr>
        <p:spPr>
          <a:xfrm>
            <a:off x="5029200" y="3048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5029200" y="3962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514600" y="2286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1219320" y="1371600"/>
            <a:ext cx="2514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ew reg from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251460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609480" y="1219320"/>
            <a:ext cx="3200400" cy="16761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29640" y="18288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rit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1066680" y="3429000"/>
            <a:ext cx="266724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990720" y="4572000"/>
            <a:ext cx="266688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724040" y="5029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1724040" y="3809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2514600" y="32004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25146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2133720" y="2514600"/>
            <a:ext cx="182880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2638440" y="28954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2514600" y="19810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2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3"/>
          <p:cNvSpPr/>
          <p:nvPr/>
        </p:nvSpPr>
        <p:spPr>
          <a:xfrm>
            <a:off x="21337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762120" y="2438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5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6719040" y="24382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For mispe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Two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6" name="Rectangle 8"/>
          <p:cNvSpPr/>
          <p:nvPr/>
        </p:nvSpPr>
        <p:spPr>
          <a:xfrm rot="5400000">
            <a:off x="5104800" y="1447560"/>
            <a:ext cx="1067040" cy="3962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44197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3962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876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429360" y="1447920"/>
            <a:ext cx="2284560" cy="380880"/>
            <a:chOff x="3429360" y="1447920"/>
            <a:chExt cx="2284560" cy="380880"/>
          </a:xfrm>
        </p:grpSpPr>
        <p:sp>
          <p:nvSpPr>
            <p:cNvPr id="161" name="Rectangle 14"/>
            <p:cNvSpPr/>
            <p:nvPr/>
          </p:nvSpPr>
          <p:spPr>
            <a:xfrm>
              <a:off x="34293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3999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45712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7"/>
            <p:cNvSpPr/>
            <p:nvPr/>
          </p:nvSpPr>
          <p:spPr>
            <a:xfrm>
              <a:off x="51426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20"/>
          <p:cNvSpPr/>
          <p:nvPr/>
        </p:nvSpPr>
        <p:spPr>
          <a:xfrm>
            <a:off x="69343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64771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7391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3"/>
          <p:cNvGrpSpPr/>
          <p:nvPr/>
        </p:nvGrpSpPr>
        <p:grpSpPr>
          <a:xfrm>
            <a:off x="5943960" y="1447920"/>
            <a:ext cx="2284560" cy="380880"/>
            <a:chOff x="5943960" y="1447920"/>
            <a:chExt cx="2284560" cy="380880"/>
          </a:xfrm>
        </p:grpSpPr>
        <p:sp>
          <p:nvSpPr>
            <p:cNvPr id="169" name="Rectangle 24"/>
            <p:cNvSpPr/>
            <p:nvPr/>
          </p:nvSpPr>
          <p:spPr>
            <a:xfrm>
              <a:off x="5943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65145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70858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>
              <a:off x="76572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Oval 28"/>
          <p:cNvSpPr/>
          <p:nvPr/>
        </p:nvSpPr>
        <p:spPr>
          <a:xfrm>
            <a:off x="1752480" y="1828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213372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1981080" y="25146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27432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3"/>
          <p:cNvSpPr/>
          <p:nvPr/>
        </p:nvSpPr>
        <p:spPr>
          <a:xfrm flipH="1">
            <a:off x="23623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4"/>
          <p:cNvSpPr/>
          <p:nvPr/>
        </p:nvSpPr>
        <p:spPr>
          <a:xfrm flipH="1">
            <a:off x="2133360" y="2133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5"/>
          <p:cNvSpPr/>
          <p:nvPr/>
        </p:nvSpPr>
        <p:spPr>
          <a:xfrm flipH="1">
            <a:off x="228600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6095880" y="44956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64771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6629400" y="47242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41008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7816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6248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64008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6934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0"/>
          <p:cNvSpPr/>
          <p:nvPr/>
        </p:nvSpPr>
        <p:spPr>
          <a:xfrm>
            <a:off x="1905120" y="2209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1"/>
          <p:cNvSpPr/>
          <p:nvPr/>
        </p:nvSpPr>
        <p:spPr>
          <a:xfrm>
            <a:off x="19051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2"/>
          <p:cNvSpPr/>
          <p:nvPr/>
        </p:nvSpPr>
        <p:spPr>
          <a:xfrm>
            <a:off x="74674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3"/>
          <p:cNvSpPr/>
          <p:nvPr/>
        </p:nvSpPr>
        <p:spPr>
          <a:xfrm>
            <a:off x="72388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7391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7162920" y="4952880"/>
            <a:ext cx="533160" cy="304920"/>
          </a:xfrm>
          <a:custGeom>
            <a:avLst/>
            <a:gdLst>
              <a:gd name="textAreaLeft" fmla="*/ 110880 w 533160"/>
              <a:gd name="textAreaRight" fmla="*/ 422280 w 5331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6"/>
          <p:cNvSpPr/>
          <p:nvPr/>
        </p:nvSpPr>
        <p:spPr>
          <a:xfrm>
            <a:off x="2666880" y="2895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3429000" y="2133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 flipH="1">
            <a:off x="3048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 flipH="1">
            <a:off x="2971440" y="23623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29718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2895480" y="51814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2895480" y="3276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3"/>
          <p:cNvSpPr/>
          <p:nvPr/>
        </p:nvSpPr>
        <p:spPr>
          <a:xfrm>
            <a:off x="388620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4"/>
          <p:cNvSpPr/>
          <p:nvPr/>
        </p:nvSpPr>
        <p:spPr>
          <a:xfrm>
            <a:off x="44197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5"/>
          <p:cNvSpPr/>
          <p:nvPr/>
        </p:nvSpPr>
        <p:spPr>
          <a:xfrm>
            <a:off x="48769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6"/>
          <p:cNvSpPr/>
          <p:nvPr/>
        </p:nvSpPr>
        <p:spPr>
          <a:xfrm>
            <a:off x="800100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3505320" y="5486400"/>
            <a:ext cx="2283840" cy="380880"/>
            <a:chOff x="3505320" y="5486400"/>
            <a:chExt cx="2283840" cy="380880"/>
          </a:xfrm>
        </p:grpSpPr>
        <p:sp>
          <p:nvSpPr>
            <p:cNvPr id="212" name="Rectangle 68"/>
            <p:cNvSpPr/>
            <p:nvPr/>
          </p:nvSpPr>
          <p:spPr>
            <a:xfrm>
              <a:off x="35053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40755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0"/>
            <p:cNvSpPr/>
            <p:nvPr/>
          </p:nvSpPr>
          <p:spPr>
            <a:xfrm>
              <a:off x="46472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71"/>
            <p:cNvSpPr/>
            <p:nvPr/>
          </p:nvSpPr>
          <p:spPr>
            <a:xfrm>
              <a:off x="52182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72"/>
          <p:cNvGrpSpPr/>
          <p:nvPr/>
        </p:nvGrpSpPr>
        <p:grpSpPr>
          <a:xfrm>
            <a:off x="6019920" y="5486400"/>
            <a:ext cx="2283840" cy="380880"/>
            <a:chOff x="6019920" y="5486400"/>
            <a:chExt cx="2283840" cy="380880"/>
          </a:xfrm>
        </p:grpSpPr>
        <p:sp>
          <p:nvSpPr>
            <p:cNvPr id="217" name="Rectangle 73"/>
            <p:cNvSpPr/>
            <p:nvPr/>
          </p:nvSpPr>
          <p:spPr>
            <a:xfrm>
              <a:off x="60199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4"/>
            <p:cNvSpPr/>
            <p:nvPr/>
          </p:nvSpPr>
          <p:spPr>
            <a:xfrm>
              <a:off x="65901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5"/>
            <p:cNvSpPr/>
            <p:nvPr/>
          </p:nvSpPr>
          <p:spPr>
            <a:xfrm>
              <a:off x="71618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6"/>
            <p:cNvSpPr/>
            <p:nvPr/>
          </p:nvSpPr>
          <p:spPr>
            <a:xfrm>
              <a:off x="77328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Freeform 82"/>
          <p:cNvSpPr/>
          <p:nvPr/>
        </p:nvSpPr>
        <p:spPr>
          <a:xfrm>
            <a:off x="1063800" y="1442880"/>
            <a:ext cx="7138800" cy="3943440"/>
          </a:xfrm>
          <a:custGeom>
            <a:avLst/>
            <a:gdLst/>
            <a:ahLst/>
            <a:rect l="l" t="t" r="r" b="b"/>
            <a:pathLst>
              <a:path w="4497" h="2484">
                <a:moveTo>
                  <a:pt x="947" y="42"/>
                </a:moveTo>
                <a:cubicBezTo>
                  <a:pt x="885" y="36"/>
                  <a:pt x="906" y="35"/>
                  <a:pt x="862" y="21"/>
                </a:cubicBezTo>
                <a:cubicBezTo>
                  <a:pt x="840" y="5"/>
                  <a:pt x="821" y="4"/>
                  <a:pt x="794" y="0"/>
                </a:cubicBezTo>
                <a:cubicBezTo>
                  <a:pt x="662" y="4"/>
                  <a:pt x="667" y="2"/>
                  <a:pt x="582" y="21"/>
                </a:cubicBezTo>
                <a:cubicBezTo>
                  <a:pt x="549" y="38"/>
                  <a:pt x="513" y="54"/>
                  <a:pt x="477" y="63"/>
                </a:cubicBezTo>
                <a:cubicBezTo>
                  <a:pt x="417" y="95"/>
                  <a:pt x="355" y="122"/>
                  <a:pt x="297" y="158"/>
                </a:cubicBezTo>
                <a:cubicBezTo>
                  <a:pt x="275" y="172"/>
                  <a:pt x="262" y="189"/>
                  <a:pt x="239" y="201"/>
                </a:cubicBezTo>
                <a:cubicBezTo>
                  <a:pt x="232" y="211"/>
                  <a:pt x="210" y="238"/>
                  <a:pt x="202" y="254"/>
                </a:cubicBezTo>
                <a:cubicBezTo>
                  <a:pt x="195" y="268"/>
                  <a:pt x="188" y="282"/>
                  <a:pt x="181" y="296"/>
                </a:cubicBezTo>
                <a:cubicBezTo>
                  <a:pt x="177" y="303"/>
                  <a:pt x="170" y="317"/>
                  <a:pt x="170" y="317"/>
                </a:cubicBezTo>
                <a:cubicBezTo>
                  <a:pt x="168" y="324"/>
                  <a:pt x="168" y="331"/>
                  <a:pt x="165" y="338"/>
                </a:cubicBezTo>
                <a:cubicBezTo>
                  <a:pt x="162" y="345"/>
                  <a:pt x="156" y="351"/>
                  <a:pt x="154" y="359"/>
                </a:cubicBezTo>
                <a:cubicBezTo>
                  <a:pt x="149" y="373"/>
                  <a:pt x="144" y="402"/>
                  <a:pt x="144" y="402"/>
                </a:cubicBezTo>
                <a:cubicBezTo>
                  <a:pt x="133" y="509"/>
                  <a:pt x="102" y="614"/>
                  <a:pt x="80" y="719"/>
                </a:cubicBezTo>
                <a:cubicBezTo>
                  <a:pt x="69" y="773"/>
                  <a:pt x="67" y="828"/>
                  <a:pt x="54" y="882"/>
                </a:cubicBezTo>
                <a:cubicBezTo>
                  <a:pt x="50" y="916"/>
                  <a:pt x="41" y="949"/>
                  <a:pt x="38" y="983"/>
                </a:cubicBezTo>
                <a:cubicBezTo>
                  <a:pt x="34" y="1022"/>
                  <a:pt x="28" y="1099"/>
                  <a:pt x="28" y="1099"/>
                </a:cubicBezTo>
                <a:cubicBezTo>
                  <a:pt x="30" y="1257"/>
                  <a:pt x="0" y="1506"/>
                  <a:pt x="86" y="1670"/>
                </a:cubicBezTo>
                <a:cubicBezTo>
                  <a:pt x="99" y="1725"/>
                  <a:pt x="135" y="1777"/>
                  <a:pt x="160" y="1828"/>
                </a:cubicBezTo>
                <a:cubicBezTo>
                  <a:pt x="260" y="2031"/>
                  <a:pt x="405" y="2231"/>
                  <a:pt x="614" y="2330"/>
                </a:cubicBezTo>
                <a:cubicBezTo>
                  <a:pt x="635" y="2351"/>
                  <a:pt x="664" y="2358"/>
                  <a:pt x="693" y="2367"/>
                </a:cubicBezTo>
                <a:cubicBezTo>
                  <a:pt x="719" y="2375"/>
                  <a:pt x="740" y="2388"/>
                  <a:pt x="767" y="2394"/>
                </a:cubicBezTo>
                <a:cubicBezTo>
                  <a:pt x="828" y="2409"/>
                  <a:pt x="883" y="2412"/>
                  <a:pt x="947" y="2415"/>
                </a:cubicBezTo>
                <a:cubicBezTo>
                  <a:pt x="1011" y="2423"/>
                  <a:pt x="1074" y="2428"/>
                  <a:pt x="1137" y="2436"/>
                </a:cubicBezTo>
                <a:cubicBezTo>
                  <a:pt x="1167" y="2440"/>
                  <a:pt x="1227" y="2447"/>
                  <a:pt x="1227" y="2447"/>
                </a:cubicBezTo>
                <a:cubicBezTo>
                  <a:pt x="1271" y="2445"/>
                  <a:pt x="1315" y="2441"/>
                  <a:pt x="1359" y="2441"/>
                </a:cubicBezTo>
                <a:cubicBezTo>
                  <a:pt x="1417" y="2441"/>
                  <a:pt x="1476" y="2448"/>
                  <a:pt x="1534" y="2447"/>
                </a:cubicBezTo>
                <a:cubicBezTo>
                  <a:pt x="1566" y="2446"/>
                  <a:pt x="1629" y="2436"/>
                  <a:pt x="1629" y="2436"/>
                </a:cubicBezTo>
                <a:cubicBezTo>
                  <a:pt x="1684" y="2423"/>
                  <a:pt x="1726" y="2423"/>
                  <a:pt x="1787" y="2420"/>
                </a:cubicBezTo>
                <a:cubicBezTo>
                  <a:pt x="1896" y="2435"/>
                  <a:pt x="2010" y="2436"/>
                  <a:pt x="2120" y="2441"/>
                </a:cubicBezTo>
                <a:cubicBezTo>
                  <a:pt x="2148" y="2447"/>
                  <a:pt x="2176" y="2453"/>
                  <a:pt x="2205" y="2457"/>
                </a:cubicBezTo>
                <a:cubicBezTo>
                  <a:pt x="2288" y="2446"/>
                  <a:pt x="2370" y="2440"/>
                  <a:pt x="2453" y="2436"/>
                </a:cubicBezTo>
                <a:cubicBezTo>
                  <a:pt x="2582" y="2441"/>
                  <a:pt x="2705" y="2434"/>
                  <a:pt x="2834" y="2431"/>
                </a:cubicBezTo>
                <a:cubicBezTo>
                  <a:pt x="2957" y="2422"/>
                  <a:pt x="3080" y="2416"/>
                  <a:pt x="3203" y="2410"/>
                </a:cubicBezTo>
                <a:cubicBezTo>
                  <a:pt x="3368" y="2416"/>
                  <a:pt x="3522" y="2440"/>
                  <a:pt x="3684" y="2462"/>
                </a:cubicBezTo>
                <a:cubicBezTo>
                  <a:pt x="3738" y="2477"/>
                  <a:pt x="3797" y="2479"/>
                  <a:pt x="3853" y="2484"/>
                </a:cubicBezTo>
                <a:cubicBezTo>
                  <a:pt x="3924" y="2478"/>
                  <a:pt x="3994" y="2475"/>
                  <a:pt x="4065" y="2468"/>
                </a:cubicBezTo>
                <a:cubicBezTo>
                  <a:pt x="4089" y="2461"/>
                  <a:pt x="4139" y="2452"/>
                  <a:pt x="4139" y="2452"/>
                </a:cubicBezTo>
                <a:cubicBezTo>
                  <a:pt x="4168" y="2437"/>
                  <a:pt x="4202" y="2426"/>
                  <a:pt x="4234" y="2420"/>
                </a:cubicBezTo>
                <a:cubicBezTo>
                  <a:pt x="4261" y="2407"/>
                  <a:pt x="4290" y="2396"/>
                  <a:pt x="4318" y="2388"/>
                </a:cubicBezTo>
                <a:cubicBezTo>
                  <a:pt x="4361" y="2361"/>
                  <a:pt x="4399" y="2334"/>
                  <a:pt x="4435" y="2299"/>
                </a:cubicBezTo>
                <a:cubicBezTo>
                  <a:pt x="4457" y="2277"/>
                  <a:pt x="4466" y="2244"/>
                  <a:pt x="4482" y="2219"/>
                </a:cubicBezTo>
                <a:cubicBezTo>
                  <a:pt x="4497" y="2141"/>
                  <a:pt x="4483" y="2011"/>
                  <a:pt x="4408" y="1960"/>
                </a:cubicBezTo>
                <a:cubicBezTo>
                  <a:pt x="4379" y="1916"/>
                  <a:pt x="4312" y="1888"/>
                  <a:pt x="4266" y="1865"/>
                </a:cubicBezTo>
                <a:cubicBezTo>
                  <a:pt x="4237" y="1850"/>
                  <a:pt x="4214" y="1831"/>
                  <a:pt x="4181" y="1823"/>
                </a:cubicBezTo>
                <a:cubicBezTo>
                  <a:pt x="4128" y="1795"/>
                  <a:pt x="4068" y="1792"/>
                  <a:pt x="4012" y="1775"/>
                </a:cubicBezTo>
                <a:cubicBezTo>
                  <a:pt x="3933" y="1751"/>
                  <a:pt x="3851" y="1732"/>
                  <a:pt x="3769" y="1723"/>
                </a:cubicBezTo>
                <a:cubicBezTo>
                  <a:pt x="3726" y="1711"/>
                  <a:pt x="3681" y="1710"/>
                  <a:pt x="3637" y="1707"/>
                </a:cubicBezTo>
                <a:cubicBezTo>
                  <a:pt x="3559" y="1709"/>
                  <a:pt x="3482" y="1709"/>
                  <a:pt x="3404" y="1712"/>
                </a:cubicBezTo>
                <a:cubicBezTo>
                  <a:pt x="3346" y="1714"/>
                  <a:pt x="3288" y="1743"/>
                  <a:pt x="3230" y="1754"/>
                </a:cubicBezTo>
                <a:cubicBezTo>
                  <a:pt x="3158" y="1783"/>
                  <a:pt x="3078" y="1795"/>
                  <a:pt x="3003" y="1818"/>
                </a:cubicBezTo>
                <a:cubicBezTo>
                  <a:pt x="2978" y="1826"/>
                  <a:pt x="2954" y="1837"/>
                  <a:pt x="2929" y="1844"/>
                </a:cubicBezTo>
                <a:cubicBezTo>
                  <a:pt x="2913" y="1848"/>
                  <a:pt x="2881" y="1855"/>
                  <a:pt x="2881" y="1855"/>
                </a:cubicBezTo>
                <a:cubicBezTo>
                  <a:pt x="2841" y="1874"/>
                  <a:pt x="2878" y="1859"/>
                  <a:pt x="2812" y="1871"/>
                </a:cubicBezTo>
                <a:cubicBezTo>
                  <a:pt x="2722" y="1887"/>
                  <a:pt x="2635" y="1901"/>
                  <a:pt x="2543" y="1908"/>
                </a:cubicBezTo>
                <a:cubicBezTo>
                  <a:pt x="2387" y="1903"/>
                  <a:pt x="2228" y="1905"/>
                  <a:pt x="2073" y="1886"/>
                </a:cubicBezTo>
                <a:cubicBezTo>
                  <a:pt x="1976" y="1874"/>
                  <a:pt x="1888" y="1838"/>
                  <a:pt x="1793" y="1823"/>
                </a:cubicBezTo>
                <a:cubicBezTo>
                  <a:pt x="1747" y="1804"/>
                  <a:pt x="1701" y="1782"/>
                  <a:pt x="1655" y="1765"/>
                </a:cubicBezTo>
                <a:cubicBezTo>
                  <a:pt x="1616" y="1735"/>
                  <a:pt x="1563" y="1705"/>
                  <a:pt x="1528" y="1670"/>
                </a:cubicBezTo>
                <a:cubicBezTo>
                  <a:pt x="1480" y="1622"/>
                  <a:pt x="1448" y="1571"/>
                  <a:pt x="1417" y="1511"/>
                </a:cubicBezTo>
                <a:cubicBezTo>
                  <a:pt x="1414" y="1497"/>
                  <a:pt x="1410" y="1483"/>
                  <a:pt x="1407" y="1469"/>
                </a:cubicBezTo>
                <a:cubicBezTo>
                  <a:pt x="1405" y="1460"/>
                  <a:pt x="1401" y="1443"/>
                  <a:pt x="1401" y="1443"/>
                </a:cubicBezTo>
                <a:cubicBezTo>
                  <a:pt x="1393" y="1335"/>
                  <a:pt x="1412" y="1244"/>
                  <a:pt x="1444" y="1141"/>
                </a:cubicBezTo>
                <a:cubicBezTo>
                  <a:pt x="1454" y="1107"/>
                  <a:pt x="1468" y="1078"/>
                  <a:pt x="1481" y="1046"/>
                </a:cubicBezTo>
                <a:cubicBezTo>
                  <a:pt x="1489" y="1025"/>
                  <a:pt x="1502" y="983"/>
                  <a:pt x="1502" y="983"/>
                </a:cubicBezTo>
                <a:cubicBezTo>
                  <a:pt x="1507" y="953"/>
                  <a:pt x="1517" y="928"/>
                  <a:pt x="1523" y="898"/>
                </a:cubicBezTo>
                <a:cubicBezTo>
                  <a:pt x="1532" y="794"/>
                  <a:pt x="1543" y="683"/>
                  <a:pt x="1512" y="581"/>
                </a:cubicBezTo>
                <a:cubicBezTo>
                  <a:pt x="1468" y="435"/>
                  <a:pt x="1327" y="288"/>
                  <a:pt x="1195" y="217"/>
                </a:cubicBezTo>
                <a:cubicBezTo>
                  <a:pt x="1098" y="165"/>
                  <a:pt x="991" y="127"/>
                  <a:pt x="884" y="100"/>
                </a:cubicBezTo>
                <a:cubicBezTo>
                  <a:pt x="866" y="95"/>
                  <a:pt x="844" y="86"/>
                  <a:pt x="825" y="84"/>
                </a:cubicBezTo>
                <a:cubicBezTo>
                  <a:pt x="790" y="80"/>
                  <a:pt x="720" y="74"/>
                  <a:pt x="720" y="74"/>
                </a:cubicBezTo>
                <a:cubicBezTo>
                  <a:pt x="713" y="72"/>
                  <a:pt x="699" y="69"/>
                  <a:pt x="699" y="69"/>
                </a:cubicBezTo>
                <a:cubicBezTo>
                  <a:pt x="699" y="69"/>
                  <a:pt x="947" y="42"/>
                  <a:pt x="947" y="42"/>
                </a:cubicBezTo>
                <a:close/>
              </a:path>
            </a:pathLst>
          </a:custGeom>
          <a:solidFill>
            <a:srgbClr val="ffb481">
              <a:alpha val="2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189360" y="1295280"/>
            <a:ext cx="31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ross Bu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Dependency Check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More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y Checking logic for instruction </a:t>
            </a:r>
            <a:r>
              <a:rPr b="1" i="1" lang="en-US" sz="2400" spc="-1" strike="noStrike">
                <a:solidFill>
                  <a:srgbClr val="000000"/>
                </a:solidFill>
                <a:latin typeface="AvantGarde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must match against all preceding destin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f there are multiple matches it must enforce priorit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ck the one closest to this instructi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SR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371600" y="29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2666880" y="237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276160" y="1766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RAM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1"/>
          <p:cNvSpPr/>
          <p:nvPr/>
        </p:nvSpPr>
        <p:spPr>
          <a:xfrm flipH="1">
            <a:off x="5028840" y="214776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3166920" y="13716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it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3276720" y="4357800"/>
            <a:ext cx="380880" cy="304560"/>
          </a:xfrm>
          <a:custGeom>
            <a:avLst/>
            <a:gdLst>
              <a:gd name="textAreaLeft" fmla="*/ 79200 w 380880"/>
              <a:gd name="textAreaRight" fmla="*/ 301680 w 38088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3572640" y="4357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1089720" y="251460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6"/>
          <p:cNvSpPr/>
          <p:nvPr/>
        </p:nvSpPr>
        <p:spPr>
          <a:xfrm>
            <a:off x="3505320" y="4662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3162240" y="511956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7074720" y="2682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ARCH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5157720" y="390204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PHYS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IPS R10000-Like Design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ased on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omplexity-Effective Superscalar Processor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. Palacharla, N. Jouppi and J. E. Smith, ISCA 97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RAT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501040" cy="49006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4038480" y="3733920"/>
            <a:ext cx="914400" cy="1676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685800" y="43434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7543800" y="41148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152280" y="3124080"/>
            <a:ext cx="129564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590920" y="3124080"/>
            <a:ext cx="129528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7315200" y="3048120"/>
            <a:ext cx="1295280" cy="53316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C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1371600" y="2895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66880" y="23623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4699080" y="13716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AM 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1"/>
          <p:cNvSpPr/>
          <p:nvPr/>
        </p:nvSpPr>
        <p:spPr>
          <a:xfrm flipH="1">
            <a:off x="5028840" y="1828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2994840" y="144792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723960" y="243828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9"/>
          <p:cNvSpPr/>
          <p:nvPr/>
        </p:nvSpPr>
        <p:spPr>
          <a:xfrm>
            <a:off x="7082640" y="26827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PHYS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5150160" y="390204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ARCH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5181480" y="2286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5181480" y="2590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4"/>
          <p:cNvSpPr/>
          <p:nvPr/>
        </p:nvSpPr>
        <p:spPr>
          <a:xfrm>
            <a:off x="518148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45"/>
          <p:cNvSpPr/>
          <p:nvPr/>
        </p:nvSpPr>
        <p:spPr>
          <a:xfrm flipH="1">
            <a:off x="54100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5708520" y="175248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ctiv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e CAM per physical registe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tive bit indicates the current ma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ew version by setting active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AM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057400" y="1371600"/>
          <a:ext cx="518148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51814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vs. CAM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rch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phy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RAM read/wri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hy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arch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M matc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set previous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current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345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354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 for more than one FU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andling Multiple FUs of Same Typ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ck Select logic bloc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n series - hierarch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ask the Request gran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 previous un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NOT Feasible for More than 2 FU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lternative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tically partition issue window among FUs – MIPS R10000, HP PA 8000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809880" cy="26953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5"/>
          <p:cNvSpPr/>
          <p:nvPr/>
        </p:nvSpPr>
        <p:spPr>
          <a:xfrm>
            <a:off x="5029200" y="158904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path and Bypas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1"/>
          <a:stretch/>
        </p:blipFill>
        <p:spPr>
          <a:xfrm>
            <a:off x="0" y="85104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3"/>
          <p:cNvSpPr/>
          <p:nvPr/>
        </p:nvSpPr>
        <p:spPr>
          <a:xfrm>
            <a:off x="3124080" y="1219320"/>
            <a:ext cx="3581640" cy="8766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Commonly Used Lay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4038480" y="5943600"/>
            <a:ext cx="228600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1 Bit-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 rot="16200000">
            <a:off x="5029200" y="426708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6"/>
          <p:cNvSpPr/>
          <p:nvPr/>
        </p:nvSpPr>
        <p:spPr>
          <a:xfrm>
            <a:off x="6775560" y="1820880"/>
            <a:ext cx="2373120" cy="2586600"/>
          </a:xfrm>
          <a:custGeom>
            <a:avLst/>
            <a:gdLst>
              <a:gd name="textAreaLeft" fmla="*/ 195840 w 2373120"/>
              <a:gd name="textAreaRight" fmla="*/ 2177280 w 2373120"/>
              <a:gd name="textAreaTop" fmla="*/ 195840 h 2586600"/>
              <a:gd name="textAreaBottom" fmla="*/ 2390760 h 2586600"/>
            </a:gdLst>
            <a:ahLst/>
            <a:rect l="textAreaLeft" t="textAreaTop" r="textAreaRight" b="textAreaBottom"/>
            <a:pathLst>
              <a:path w="21600" h="23543">
                <a:moveTo>
                  <a:pt x="6094" y="0"/>
                </a:moveTo>
                <a:arcTo wR="6094" hR="6094" stAng="16200000" swAng="-5400000"/>
                <a:lnTo>
                  <a:pt x="0" y="17449"/>
                </a:lnTo>
                <a:arcTo wR="6094" hR="6094" stAng="10800000" swAng="-5400000"/>
                <a:lnTo>
                  <a:pt x="15506" y="23543"/>
                </a:lnTo>
                <a:arcTo wR="6094" hR="6094" stAng="5400000" swAng="-5400000"/>
                <a:lnTo>
                  <a:pt x="21600" y="6094"/>
                </a:lnTo>
                <a:arcTo wR="6094" hR="6094" stAng="0" swAng="-5400000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Turn on Tri-State A to pass result of FU1 to left operand of FU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17"/>
          <p:cNvGrpSpPr/>
          <p:nvPr/>
        </p:nvGrpSpPr>
        <p:grpSpPr>
          <a:xfrm>
            <a:off x="4262400" y="2216160"/>
            <a:ext cx="1376280" cy="814320"/>
            <a:chOff x="4262400" y="2216160"/>
            <a:chExt cx="1376280" cy="814320"/>
          </a:xfrm>
        </p:grpSpPr>
        <p:sp>
          <p:nvSpPr>
            <p:cNvPr id="384" name="Freeform 18"/>
            <p:cNvSpPr/>
            <p:nvPr/>
          </p:nvSpPr>
          <p:spPr>
            <a:xfrm>
              <a:off x="4262400" y="221616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5410080" y="251460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 flipH="1">
              <a:off x="5521320" y="251460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Fetch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Fetch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ad instructions from I-Cach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redict Branch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 on to Decode phas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Oval 5"/>
          <p:cNvSpPr/>
          <p:nvPr/>
        </p:nvSpPr>
        <p:spPr>
          <a:xfrm>
            <a:off x="990720" y="1295280"/>
            <a:ext cx="83808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as a function of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ssue Width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gister Renaming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akeup and Selec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 path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 representative CMOS design is selected from published alternativ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mplemented the circuits for 3 technologi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8micron, 0.35micron and 0.18 micr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ptimize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re parasitics in delay mod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, Cmetal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eature size scaling: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Voltage scaling: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ogic Delay = 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 V) / I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pac. Load: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ply Voltage: V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verage charge/discharge current: I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o, Logic Delay = (1 / S x 1 / U ) / (1 / U) =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: wire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trinsic RC 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metal: resis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metal: capaci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0.5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order approximation of distributed RC model – uniformly distributed R &amp; 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096240" cy="61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4724280" cy="58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83912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Metal Thickness doesn’t scale muc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dth ~ 1/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ringe Capacitance dominates in smaller feature sizes – edges to parallel wires and the substra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arallel plate – scales with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scales with 1/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verall Scale factor: S x S x (1/S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= 1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vantGarde"/>
              </a:rPr>
              <a:t>Wire delay remains constan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Renaming Tabl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9210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pendency Checking Logic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cessed in Parallel with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Every Logical Reg compared against logical dest regs of current rename grou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r IW=2,4,8, delay less than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8248680" cy="288576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5"/>
          <p:cNvGrpSpPr/>
          <p:nvPr/>
        </p:nvGrpSpPr>
        <p:grpSpPr>
          <a:xfrm>
            <a:off x="1219320" y="3314880"/>
            <a:ext cx="596880" cy="672840"/>
            <a:chOff x="1219320" y="3314880"/>
            <a:chExt cx="596880" cy="672840"/>
          </a:xfrm>
        </p:grpSpPr>
        <p:sp>
          <p:nvSpPr>
            <p:cNvPr id="420" name="Rectangle 6"/>
            <p:cNvSpPr/>
            <p:nvPr/>
          </p:nvSpPr>
          <p:spPr>
            <a:xfrm>
              <a:off x="1219320" y="3314880"/>
              <a:ext cx="152280" cy="2286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19320" y="3568680"/>
              <a:ext cx="152280" cy="228600"/>
            </a:xfrm>
            <a:prstGeom prst="rect">
              <a:avLst/>
            </a:prstGeom>
            <a:noFill/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1663560" y="3759120"/>
              <a:ext cx="15264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9"/>
          <p:cNvGrpSpPr/>
          <p:nvPr/>
        </p:nvGrpSpPr>
        <p:grpSpPr>
          <a:xfrm>
            <a:off x="4800600" y="4038480"/>
            <a:ext cx="355680" cy="2212200"/>
            <a:chOff x="4800600" y="4038480"/>
            <a:chExt cx="355680" cy="2212200"/>
          </a:xfrm>
        </p:grpSpPr>
        <p:sp>
          <p:nvSpPr>
            <p:cNvPr id="424" name="Text Box 10"/>
            <p:cNvSpPr/>
            <p:nvPr/>
          </p:nvSpPr>
          <p:spPr>
            <a:xfrm>
              <a:off x="4800600" y="40384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  <a:ea typeface="Times New Roman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4800600" y="44197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4800600" y="49528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3"/>
            <p:cNvSpPr/>
            <p:nvPr/>
          </p:nvSpPr>
          <p:spPr>
            <a:xfrm>
              <a:off x="4800600" y="46483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ccff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4800600" y="5943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Delay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 schem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ecode the arch reg index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rive word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pull down bit 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for SenseAmp to detect pull-dow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UX time ignored as control from dep. Check logic comes in advanc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6743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Circui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685800" y="1619280"/>
            <a:ext cx="77724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225440" y="1066680"/>
            <a:ext cx="669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cod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rse instr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huffle opcode parts to appropriate ports for renam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Oval 5"/>
          <p:cNvSpPr/>
          <p:nvPr/>
        </p:nvSpPr>
        <p:spPr>
          <a:xfrm>
            <a:off x="190512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ing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of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ellheight: Height of single cell excluding wordlin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ordline spac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VREG: # of virtual reg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3: 3-operand instr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229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and fall delay of NAN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or rise delay of NO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nandpd NAND pull-down  channel resistance + Predecode line metal resistance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+ Predecode line metal resistance (NAND --- NO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 due to distributed R&amp;C model fo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eq diff-n Cap. of NAND + gate Cap. of NOR + interconnect Cap.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105000" cy="533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8534520" cy="43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6934320" cy="457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191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bstitu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 length, Req and Ceq we ge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predecode 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coder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876920" cy="419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64440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nseAmp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5562720" cy="5065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Logic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4952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Feature size -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 [increase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bitline&amp;wordline delay with increasing IW] 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37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1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53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3240" y="1066680"/>
            <a:ext cx="3048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Total delay increases linearly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Each Component shows linear increase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Delay &gt; Wordline Delay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length ~ # of Logical reg-s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Wordline length ~ width of physical reg designator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6" name="Group 6"/>
          <p:cNvGrpSpPr/>
          <p:nvPr/>
        </p:nvGrpSpPr>
        <p:grpSpPr>
          <a:xfrm>
            <a:off x="539640" y="1197000"/>
            <a:ext cx="5457960" cy="3692520"/>
            <a:chOff x="539640" y="1197000"/>
            <a:chExt cx="5457960" cy="3692520"/>
          </a:xfrm>
        </p:grpSpPr>
        <p:pic>
          <p:nvPicPr>
            <p:cNvPr id="477" name="Picture 7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545796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Line 8"/>
            <p:cNvSpPr/>
            <p:nvPr/>
          </p:nvSpPr>
          <p:spPr>
            <a:xfrm>
              <a:off x="1270080" y="2835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1593720" y="27716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1917720" y="26384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2559240" y="375588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2882880" y="36925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3206880" y="35910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3860640" y="3978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4178160" y="39402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4502160" y="38383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Text Box 17"/>
          <p:cNvSpPr/>
          <p:nvPr/>
        </p:nvSpPr>
        <p:spPr>
          <a:xfrm>
            <a:off x="5697720" y="524196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IW impact on delay worsen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ith decreasing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ritical Path: Mismatch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Pull ready signal lo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Tag driv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rive tag lines - vert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ismatched bit: pull down stac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pull matchline low – horizont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inal OR g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or all the matchlines of an operand tag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tagdrive ~ Driver Pullup R &amp; Tagline length &amp; Tagline Load C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Quadratic component significant for IW&gt;2 &amp; 0.18um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8305920" cy="304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53341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Quadratic component Small for both cas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oth delays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290600" y="2311560"/>
            <a:ext cx="4648320" cy="5619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03" name="Picture 5" descr=""/>
          <p:cNvPicPr/>
          <p:nvPr/>
        </p:nvPicPr>
        <p:blipFill>
          <a:blip r:embed="rId2"/>
          <a:stretch/>
        </p:blipFill>
        <p:spPr>
          <a:xfrm>
            <a:off x="1403280" y="4149720"/>
            <a:ext cx="4343400" cy="439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IW and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66920" y="1066680"/>
            <a:ext cx="259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0.18um Proces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Quadratic dependenc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ssue width has greater effec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increase all 3 delay component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s IW &amp; WinSize +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lay actually changes like: </a:t>
            </a:r>
            <a:r>
              <a:rPr b="0" lang="en-US" sz="2000" spc="-1" strike="noStrike">
                <a:solidFill>
                  <a:srgbClr val="6600ff"/>
                </a:solidFill>
                <a:latin typeface="AvantGarde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rcRect l="0" t="0" r="51283" b="57203"/>
          <a:stretch/>
        </p:blipFill>
        <p:spPr>
          <a:xfrm>
            <a:off x="762120" y="1143000"/>
            <a:ext cx="4952880" cy="3649680"/>
          </a:xfrm>
          <a:prstGeom prst="rect">
            <a:avLst/>
          </a:prstGeom>
          <a:ln w="0">
            <a:noFill/>
          </a:ln>
        </p:spPr>
      </p:pic>
      <p:sp>
        <p:nvSpPr>
          <p:cNvPr id="509" name="Line 5"/>
          <p:cNvSpPr/>
          <p:nvPr/>
        </p:nvSpPr>
        <p:spPr>
          <a:xfrm flipV="1">
            <a:off x="3276720" y="2361960"/>
            <a:ext cx="2057400" cy="60948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762120" y="4800600"/>
            <a:ext cx="81532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0.1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delay increases rapidly with WinSize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Match OR delay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4572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Feature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533520" y="4572000"/>
            <a:ext cx="86104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64 entry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and Tag match delays do not scale as well as MatchOR 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tch 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logic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th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also have wir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76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523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ion Logic and Bypass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lection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ogarithmically dependent on Win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: Delay dependent on  (IW)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724280" cy="531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ult Forward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umber of possible bypass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 pipestages after first result stage &amp; 2 I/p F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Key Delay Componen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ult wi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ength &amp; loa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rongly layout dependen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1B47-8131-445E-A102-7CEFBFC5CEE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87CB-4CA2-4068-A838-482E922BFE1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7"/>
          <a:stretch/>
        </p:blipFill>
        <p:spPr>
          <a:xfrm>
            <a:off x="2057400" y="2709720"/>
            <a:ext cx="198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5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BE16-5D09-46D6-A21B-AFC95829563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2703-65A4-4DA1-9B91-8CA627A8356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0" y="100332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7"/>
          <p:cNvSpPr/>
          <p:nvPr/>
        </p:nvSpPr>
        <p:spPr>
          <a:xfrm>
            <a:off x="3124080" y="1371600"/>
            <a:ext cx="358164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monly Used Lay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4038480" y="6095880"/>
            <a:ext cx="228600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Bit-S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0"/>
          <p:cNvSpPr/>
          <p:nvPr/>
        </p:nvSpPr>
        <p:spPr>
          <a:xfrm rot="16200000">
            <a:off x="5029200" y="441936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/>
          <p:cNvSpPr/>
          <p:nvPr/>
        </p:nvSpPr>
        <p:spPr>
          <a:xfrm>
            <a:off x="6791400" y="1989000"/>
            <a:ext cx="234324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urn on Tri-State A to pass result of FU1 to left operand of FU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17"/>
          <p:cNvGrpSpPr/>
          <p:nvPr/>
        </p:nvGrpSpPr>
        <p:grpSpPr>
          <a:xfrm>
            <a:off x="4262400" y="2368440"/>
            <a:ext cx="1376280" cy="814320"/>
            <a:chOff x="4262400" y="2368440"/>
            <a:chExt cx="1376280" cy="814320"/>
          </a:xfrm>
        </p:grpSpPr>
        <p:sp>
          <p:nvSpPr>
            <p:cNvPr id="562" name="Freeform 14"/>
            <p:cNvSpPr/>
            <p:nvPr/>
          </p:nvSpPr>
          <p:spPr>
            <a:xfrm>
              <a:off x="4262400" y="236844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5410080" y="266688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flipH="1">
              <a:off x="5521320" y="266688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Generic wire delay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 is dependent on # of FUs (IW) &amp; FU height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peline depth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&lt;NOT implemented in simulations!&gt;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vantGarde"/>
              </a:rPr>
              <a:t>Typical FU heights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FDED-BF45-46DF-8BCE-096E49588EE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2895-3991-4571-A2A2-1B7853C31EC2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6"/>
          <a:stretch/>
        </p:blipFill>
        <p:spPr>
          <a:xfrm>
            <a:off x="3200400" y="1905120"/>
            <a:ext cx="548640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7"/>
          <a:stretch/>
        </p:blipFill>
        <p:spPr>
          <a:xfrm>
            <a:off x="1143000" y="3962520"/>
            <a:ext cx="712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omputed delays for hypothetical machines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lay independent of feature size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Delay dependent on  (IW)</a:t>
            </a:r>
            <a:r>
              <a:rPr b="1" lang="en-US" sz="2400" spc="-1" strike="noStrike" baseline="20000">
                <a:solidFill>
                  <a:srgbClr val="3333cc"/>
                </a:solidFill>
                <a:latin typeface="AvantGarde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06D0-FD58-4AFB-87F2-6F18DBFA2363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15B9-6246-439E-9E04-6ABB469BD56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5"/>
          <a:stretch/>
        </p:blipFill>
        <p:spPr>
          <a:xfrm>
            <a:off x="457200" y="2438280"/>
            <a:ext cx="83818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</a:t>
            </a: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Alternative Layouts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utation directly dependent on layou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Clustered Organization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C 21264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9365-BEDB-4BC2-8B0D-C2A7B562E9E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5A1D-5A27-4723-82A9-CF86C387F15B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2"/>
          <a:stretch/>
        </p:blipFill>
        <p:spPr>
          <a:xfrm>
            <a:off x="0" y="2895480"/>
            <a:ext cx="3141720" cy="34290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6"/>
          <p:cNvSpPr/>
          <p:nvPr/>
        </p:nvSpPr>
        <p:spPr>
          <a:xfrm>
            <a:off x="236232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luster of FUs with its own reg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Cluster bypasses: 1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Cluster bypasses: 2 or mor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 &amp; compiler effort to ensure inter cluster bypasses occur in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4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FF2B-4864-40E5-9C1B-01B8E844F57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C995-B13C-4C63-BBCE-60BD45596100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9"/>
          <a:stretch/>
        </p:blipFill>
        <p:spPr>
          <a:xfrm>
            <a:off x="3352680" y="914400"/>
            <a:ext cx="51818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&amp; Bypass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Both are ‘atomic’ operation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- dependent instr-s cannot issue consecutively if pipelin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3441-B557-4E3F-87C7-56E8CC0D6C9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2AEC-4C6B-4F33-8E79-75D1C093377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6305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COMPLEXITY EFFECTIVE MICROARCHITECTURE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rainiac &amp; Mania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High IPC &amp; High CLK ra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mplify Wakeup &amp; Selection Logic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aturally extendable to clusterin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solve bypass problem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Group dependent instr-s rather than independent on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Dependence Based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B31E-948F-4ECA-9BD0-40B8DEDFD39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CE0B-C5B3-42A7-B5B2-35A8E506824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t instr-s cannot execute in parall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ssue Window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FIFO buffers (issue inorde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AvantGarde"/>
              </a:rPr>
              <a:t>Steer’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pendent instr-s to same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ly FIFO heads need check for ready operand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4BEF-0869-417C-BC69-E91CDE6B381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1520-79B6-408B-95A4-B1EA28B2F1E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380880" y="669960"/>
            <a:ext cx="7925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22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RC_FIFO Tabl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ilar to Map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dexed with 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ister designato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ntries: SRC-FIFO(Rs)=FIFO where the instr-n that will write Rs exists. &lt;Invalid if instr-n completed&gt;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be accessed parallel with map table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28C0-93EA-4BCC-BC3D-A9D3B16A0C1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70EF-2C77-49B1-9406-B656A0963DCA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5"/>
          <a:stretch/>
        </p:blipFill>
        <p:spPr>
          <a:xfrm>
            <a:off x="4648320" y="1374840"/>
            <a:ext cx="44956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operand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in regfil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to an empty FIFO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a single outstanding operand to be written by Inst0, in FIFO F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2 outstanding operands to be written by Inst0&amp;Inst1 in Fa &amp; F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No instr-n behind Inst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b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FIFOs full/No Empty FIF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STAL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95EA-3BD1-44FB-8719-77CD9C9B8E8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F047-C348-412D-920C-B63E87585074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028" descr=""/>
          <p:cNvPicPr/>
          <p:nvPr/>
        </p:nvPicPr>
        <p:blipFill>
          <a:blip r:embed="rId12"/>
          <a:stretch/>
        </p:blipFill>
        <p:spPr>
          <a:xfrm>
            <a:off x="4724280" y="685800"/>
            <a:ext cx="44960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 &lt;Ex&gt;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ABD4-CD85-47C5-B0F0-AD8475F778F4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5A97-D568-48DE-8950-EFE8ED32554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029" descr=""/>
          <p:cNvPicPr/>
          <p:nvPr/>
        </p:nvPicPr>
        <p:blipFill>
          <a:blip r:embed="rId2"/>
          <a:stretch/>
        </p:blipFill>
        <p:spPr>
          <a:xfrm>
            <a:off x="1371600" y="2035080"/>
            <a:ext cx="6705720" cy="482292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1030"/>
          <p:cNvSpPr/>
          <p:nvPr/>
        </p:nvSpPr>
        <p:spPr>
          <a:xfrm>
            <a:off x="6781680" y="1371600"/>
            <a:ext cx="2167200" cy="7304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eer Width: 4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-way(I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037"/>
          <p:cNvGrpSpPr/>
          <p:nvPr/>
        </p:nvGrpSpPr>
        <p:grpSpPr>
          <a:xfrm>
            <a:off x="2139840" y="2689200"/>
            <a:ext cx="574920" cy="679320"/>
            <a:chOff x="2139840" y="2689200"/>
            <a:chExt cx="574920" cy="679320"/>
          </a:xfrm>
        </p:grpSpPr>
        <p:sp>
          <p:nvSpPr>
            <p:cNvPr id="628" name="Oval 1031"/>
            <p:cNvSpPr/>
            <p:nvPr/>
          </p:nvSpPr>
          <p:spPr>
            <a:xfrm>
              <a:off x="2209680" y="2689200"/>
              <a:ext cx="304920" cy="30456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1032"/>
            <p:cNvSpPr/>
            <p:nvPr/>
          </p:nvSpPr>
          <p:spPr>
            <a:xfrm>
              <a:off x="2209680" y="289224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1033"/>
            <p:cNvSpPr/>
            <p:nvPr/>
          </p:nvSpPr>
          <p:spPr>
            <a:xfrm>
              <a:off x="2409840" y="305568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036"/>
            <p:cNvSpPr/>
            <p:nvPr/>
          </p:nvSpPr>
          <p:spPr>
            <a:xfrm>
              <a:off x="2139840" y="3063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043"/>
          <p:cNvGrpSpPr/>
          <p:nvPr/>
        </p:nvGrpSpPr>
        <p:grpSpPr>
          <a:xfrm>
            <a:off x="2081160" y="3440160"/>
            <a:ext cx="619200" cy="895320"/>
            <a:chOff x="2081160" y="3440160"/>
            <a:chExt cx="619200" cy="895320"/>
          </a:xfrm>
        </p:grpSpPr>
        <p:sp>
          <p:nvSpPr>
            <p:cNvPr id="633" name="Oval 1039"/>
            <p:cNvSpPr/>
            <p:nvPr/>
          </p:nvSpPr>
          <p:spPr>
            <a:xfrm>
              <a:off x="2081160" y="34401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040"/>
            <p:cNvSpPr/>
            <p:nvPr/>
          </p:nvSpPr>
          <p:spPr>
            <a:xfrm>
              <a:off x="2301840" y="403056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1041"/>
            <p:cNvSpPr/>
            <p:nvPr/>
          </p:nvSpPr>
          <p:spPr>
            <a:xfrm>
              <a:off x="2116080" y="3645000"/>
              <a:ext cx="304920" cy="30456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1042"/>
            <p:cNvSpPr/>
            <p:nvPr/>
          </p:nvSpPr>
          <p:spPr>
            <a:xfrm>
              <a:off x="2395440" y="36273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FIFOs, 8 entries/ FIFO vs. WinSize=64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–way, aggressive instr-n fetch (no block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pleSca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PEC’95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B instr-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2713-FB14-47F1-867E-B46FBCCB2E71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375C-B647-49AF-8442-95A7B6727EB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8"/>
          <a:stretch/>
        </p:blipFill>
        <p:spPr>
          <a:xfrm>
            <a:off x="3809880" y="2514600"/>
            <a:ext cx="43992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62A1-7D4B-45DA-A534-B80479044C97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725F-DFC3-48AF-8E6D-495167BDCF9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1029" descr=""/>
          <p:cNvPicPr/>
          <p:nvPr/>
        </p:nvPicPr>
        <p:blipFill>
          <a:blip r:embed="rId2"/>
          <a:stretch/>
        </p:blipFill>
        <p:spPr>
          <a:xfrm>
            <a:off x="0" y="1914480"/>
            <a:ext cx="6934320" cy="494352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1033"/>
          <p:cNvSpPr/>
          <p:nvPr/>
        </p:nvSpPr>
        <p:spPr>
          <a:xfrm>
            <a:off x="3886200" y="198108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1034"/>
          <p:cNvSpPr/>
          <p:nvPr/>
        </p:nvSpPr>
        <p:spPr>
          <a:xfrm>
            <a:off x="7010280" y="3733920"/>
            <a:ext cx="186372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8% in 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Wakeup Logic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Need not to broadcast result tags to all window entr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only to FIFO head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Reservation Table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1 bit per re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‘Waiting for data’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result reg when instr-n dispatched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lear when instr-n execut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-n at FIFO head checks its operands’ bit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Wakeup log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ervation table acces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4327-9F8A-42A0-B3E9-1722AFD546A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7872-CA21-4F87-BD37-7929C0FC5620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 vs. Baseline Wakeup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: 80 Regs, 0.1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dow-Based arch. 32&amp;64 Reg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C23C-B43E-436F-9403-A3BE8621266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A386-2CB8-4465-87BC-2BA75247D61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1"/>
          <a:stretch/>
        </p:blipFill>
        <p:spPr>
          <a:xfrm>
            <a:off x="1295280" y="2470320"/>
            <a:ext cx="5715000" cy="1400040"/>
          </a:xfrm>
          <a:prstGeom prst="rect">
            <a:avLst/>
          </a:prstGeom>
          <a:ln w="0">
            <a:noFill/>
          </a:ln>
        </p:spPr>
      </p:pic>
      <p:grpSp>
        <p:nvGrpSpPr>
          <p:cNvPr id="662" name="Group 7"/>
          <p:cNvGrpSpPr/>
          <p:nvPr/>
        </p:nvGrpSpPr>
        <p:grpSpPr>
          <a:xfrm>
            <a:off x="1312920" y="4226040"/>
            <a:ext cx="5897160" cy="1733040"/>
            <a:chOff x="1312920" y="4226040"/>
            <a:chExt cx="5897160" cy="1733040"/>
          </a:xfrm>
        </p:grpSpPr>
        <p:pic>
          <p:nvPicPr>
            <p:cNvPr id="663" name="Picture 5" descr=""/>
            <p:cNvPicPr/>
            <p:nvPr/>
          </p:nvPicPr>
          <p:blipFill>
            <a:blip r:embed="rId2"/>
            <a:srcRect l="0" t="0" r="0" b="78389"/>
            <a:stretch/>
          </p:blipFill>
          <p:spPr>
            <a:xfrm>
              <a:off x="1312920" y="4226040"/>
              <a:ext cx="588312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6" descr=""/>
            <p:cNvPicPr/>
            <p:nvPr/>
          </p:nvPicPr>
          <p:blipFill>
            <a:blip r:embed="rId3"/>
            <a:srcRect l="0" t="72364" r="0" b="0"/>
            <a:stretch/>
          </p:blipFill>
          <p:spPr>
            <a:xfrm>
              <a:off x="1326960" y="4959720"/>
              <a:ext cx="5883120" cy="99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File Read Phase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 source operand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25780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Instruction Steering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one parallel with renam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C-FIFO table smaller than rename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malle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Delay reduc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aster clock rate ~39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PC Performance degrade &lt; 8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~ 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27% execution speed advantag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2199-EF5E-48EC-8C6C-6662600D44D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374B-4D7C-4C2B-AF33-EDCCCDA737F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2x4 wa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DBC8-C5DB-41E2-8EBB-6B10C7C51D9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6A51-AE2C-46B3-8431-550EF3DDEEA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52280" y="1844640"/>
            <a:ext cx="6248520" cy="49435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6172200" y="2057400"/>
            <a:ext cx="2971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l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 cluster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files identical, within a cycl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Advantag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Function already simplifi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Dependent instr-s to same FIF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less inter cluster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ritical bypass logic delay reduced – Main motivation of cluster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file Access delay reduced as # of por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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euristic Modified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wo separate free FIFO lists for each clu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84A6-231B-46A1-80B4-74944CE9AEB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84FA-38B6-4032-9820-8E0E0E309A5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2x4 way Dependence Arch.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8-way baseline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2x4 8-entry FIFOs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64 entry window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Inter-cluster bypass </a:t>
            </a:r>
            <a:r>
              <a:rPr b="0" lang="en-US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 2 cycle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all single cycle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FA61-8A1E-436D-821E-389D45A7F8A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5633-8853-4962-9D2E-091A086AD36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3"/>
          <a:stretch/>
        </p:blipFill>
        <p:spPr>
          <a:xfrm>
            <a:off x="495360" y="3886200"/>
            <a:ext cx="4152960" cy="28954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/>
          <p:cNvSpPr/>
          <p:nvPr/>
        </p:nvSpPr>
        <p:spPr>
          <a:xfrm>
            <a:off x="3429000" y="388620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6"/>
          <p:cNvSpPr/>
          <p:nvPr/>
        </p:nvSpPr>
        <p:spPr>
          <a:xfrm>
            <a:off x="5029200" y="4724280"/>
            <a:ext cx="2602080" cy="10958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12% in m88k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Dependence Arch will have higher clock rate: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&gt; 4-way, WinSize 32, baselin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otential Speedup over Window based architecture &gt; 88% x 125% = 110%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More than 10% performance improvement over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5A19-61BD-4224-B35A-9AFC42AF3BE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13AF-5BF2-4A6E-A94A-18286CBF639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7"/>
              <p:cNvSpPr txBox="1"/>
              <p:nvPr/>
            </p:nvSpPr>
            <p:spPr>
              <a:xfrm>
                <a:off x="1143000" y="1828800"/>
                <a:ext cx="7238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endenceArc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dowArc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lay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 Cache Access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Oval 5"/>
          <p:cNvSpPr/>
          <p:nvPr/>
        </p:nvSpPr>
        <p:spPr>
          <a:xfrm>
            <a:off x="7010280" y="1371600"/>
            <a:ext cx="11430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6:05:06Z</dcterms:created>
  <dc:creator>Andreas Moshovos</dc:creator>
  <dc:description/>
  <dc:language>en-US</dc:language>
  <cp:lastModifiedBy>bongo</cp:lastModifiedBy>
  <cp:lastPrinted>2001-01-29T22:15:32Z</cp:lastPrinted>
  <dcterms:modified xsi:type="dcterms:W3CDTF">2018-03-26T23:36:28Z</dcterms:modified>
  <cp:revision>370</cp:revision>
  <dc:subject/>
  <dc:title>No Slide Title</dc:title>
</cp:coreProperties>
</file>